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6DB90-B04B-4679-9426-28C964AC1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9D5F1-9339-44ED-884B-8A71B4069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each tool and practice finding the most important direction in each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B3074-E2F3-4D63-8EA9-12833E204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0AE01-03C2-4301-A255-3E67B1C23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48FAF-57DA-42CF-B45D-6DA8B552D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92488-1E8D-4BDA-BCFF-5F12925F9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74E6F-8087-450B-8760-A0C9AA3C3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169-DBF2-49A2-80DA-A7C40DCB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EB9-3AF4-44F4-9AF5-24405689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38C-90E0-494D-9122-3890E252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F03-2EEB-4995-AD0D-B9895AF1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407-8CFE-4DE8-8DE2-933AB78B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BCC-1190-47F3-A3BF-492DCFA7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61D-C90B-4B43-9042-06BF161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DE7-B0FC-48C0-9CBF-090CFD6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F3E-4EBE-4A4A-928E-789BA046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3FA-630D-43F2-B246-B5D93CE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693-E1B9-47F8-B8A4-E70D2451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BBA-200F-461E-9225-517B2A94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12A8E-783B-478A-8829-A36F59DD75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167D5-0721-46EA-8788-92446567E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tting Ready fo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ergent Literac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1360" y="744480"/>
            <a:ext cx="8832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000" y="254160"/>
          <a:ext cx="85518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68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phabetic Prin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1:21:04Z</dcterms:created>
  <dc:creator>Rafferty Michael</dc:creator>
  <dc:description/>
  <dc:language>en-US</dc:language>
  <cp:lastModifiedBy>Rafferty Michael</cp:lastModifiedBy>
  <cp:lastPrinted>2010-09-15T02:20:20Z</cp:lastPrinted>
  <dcterms:modified xsi:type="dcterms:W3CDTF">2010-09-15T02:20:32Z</dcterms:modified>
  <cp:revision>57</cp:revision>
  <dc:subject/>
  <dc:title>RDG 568 Practicum in Reading</dc:title>
</cp:coreProperties>
</file>